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3B9-FC17-4757-B112-FFFE86C2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347-FC5D-4ADC-B417-986F7C21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B52-930B-42A3-9DD4-753B728C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4AA-CAC8-4820-AC1A-E300BE92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4554-EC03-48EF-A673-1ED00F4A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D3A-53FC-4074-9F3E-72F7A78E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D076-95AF-4BDF-B9CC-AF0C62F1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EA9A-A0C5-4234-9EC3-AA8EA672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093D-0A95-44C4-AD22-F3F8E01F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9434-40EA-42C7-AF09-A01CD9B2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262-B937-4174-8930-4DB293C0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4BF-98F7-4453-AE3F-A1DD30E2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546A-F686-4BBC-9D1D-5B34B13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5089-14B7-4CAE-996A-A11BB09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666-1B8D-4E46-9093-641588A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8AEC-536E-4311-BAC6-18F4D2DB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4F23-4503-4081-8AB2-F58E5FFF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21A97-8A86-4EA7-A5C1-DC3F0DC5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405F-8F8A-4619-A84A-E1744DC4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56A8-A0DD-4375-A5F1-71DA740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A52E-63D6-4D21-A8DF-3D41509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B2692-86B9-4E52-B661-F03B5376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F6C-2F25-4C32-9A28-5048B0B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62D6-08E4-4662-97CA-4601C7FD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BF026-738B-43A3-9474-5CA925F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48BB-5B4B-4DB3-8A81-6700F15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94BB-2584-42C8-BECA-95A4992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8CD7-5B92-4218-8220-3BFE7044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9233-115A-4386-85AC-FBD26E6C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71FB-ED69-4007-BC32-B04B22FF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82712A-496C-4BC3-B594-1CAF9C97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5FB9B-C02F-4660-868C-C46ECA23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FF1B3-843C-45F2-A96F-27C32645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3C3-F978-4DCD-8D0B-B815F005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7934B-DBBE-45AC-B8EB-931E102E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6B203-60C8-4927-B3FF-23E82BDF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1651C-21B9-4D9D-82C7-99A9E9BC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2FC90-8781-4AAE-BEF4-314AFAD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756AC-078E-4EDE-B3C9-B9CE396D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AB59B-D994-4C9E-B9A9-E4CA89B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0DB74-1FC3-4F1C-8E3F-FA0F978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4C0B3-680F-4604-BBC4-0DAD9206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70DAB-A386-49BB-B505-A086B0DA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478-CC0E-4724-A642-90795A71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9B8-5065-4EA1-A622-B0AB0F6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42C-78E1-47BC-A45A-DE6AF5B2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98E-0501-494C-A942-7034DD5E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1DB-107A-4B57-BF73-60B7CC6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429C-71CE-4CAF-8A6D-154863C8B07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0F9E-55B1-4CD2-89D3-FD7BB3F6B09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9C0-B461-4E09-842C-4312A00F3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4A9-DA46-4691-A4B8-71DF924E36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eb.mit.edu/invent/iow/christiansen.html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 rot="19785000">
            <a:off x="1278000" y="963360"/>
            <a:ext cx="473076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7218000"/>
                </a:gradFill>
                <a:latin typeface="Impact"/>
              </a:rPr>
              <a:t>LEG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7218000"/>
              </a:gradFill>
              <a:latin typeface="Impact"/>
              <a:ea typeface="Impact"/>
            </a:endParaRPr>
          </a:p>
        </p:txBody>
      </p:sp>
      <p:sp>
        <p:nvSpPr>
          <p:cNvPr id="432" name=""/>
          <p:cNvSpPr/>
          <p:nvPr/>
        </p:nvSpPr>
        <p:spPr>
          <a:xfrm>
            <a:off x="5943600" y="457200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acob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8763120" y="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0" y="4952880"/>
            <a:ext cx="5943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Crossing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0/4/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828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tch Ole Kirk Christianse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e Kirk Christiansen was the founder of Leg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was born in 1891 in Filskov, Denma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was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 woodworker and a carpen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ing a woodworker he would make little wooden block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started his own busin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factory burnt down but he rebuilt i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rebuilding the factory, his business was dedicated to toy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1958 he di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e’s son took over the compa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e’s grandson than became the CEO of the compa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one else took over but Legos lived 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G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lions of children all over the world play with LEG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actually means “I put together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S wer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ooden but turned into plast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S became so popular they built a lego based amusement pa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obtained a trademark which was renamed Lego Bric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go sets were sold in the U.S. in 19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plo are Legos but bigger and safer for toddl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became the Lego learning Institute, the Lego Educational Division, and the Lego Serious Pl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s are sold in 130 different countr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sales are totaling over 1.5 billion doll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5562720" cy="19670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7620120" y="45720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Christiansen"/>
          <p:cNvPicPr/>
          <p:nvPr/>
        </p:nvPicPr>
        <p:blipFill>
          <a:blip r:embed="rId2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Christiansen"/>
          <p:cNvPicPr/>
          <p:nvPr/>
        </p:nvPicPr>
        <p:blipFill>
          <a:blip r:embed="rId3"/>
          <a:stretch/>
        </p:blipFill>
        <p:spPr>
          <a:xfrm>
            <a:off x="6934320" y="3200400"/>
            <a:ext cx="2209680" cy="3657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80880" y="59436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5665680"/>
            <a:ext cx="6400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melson MIT program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g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eptember 29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web.mit.edu/invent/iow/christiansen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26668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:JACOB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4T17:30:54Z</dcterms:modified>
  <cp:revision>22</cp:revision>
  <dc:subject/>
  <dc:title>Slide 1</dc:title>
</cp:coreProperties>
</file>